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6C08-C9A3-4319-A91A-6305973E78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993E-87D2-4221-B90E-C7675862C26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B33-B1E0-47E9-9244-5B61AE2E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55E-5C50-4A86-86CB-7487CEA1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5B3-3F00-499D-8F8A-B7281C76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9EE-5309-486A-915A-18335546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032-02B0-46C0-B637-6D808DA5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C42-4BC3-4AE3-BE82-31458741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217-7B46-436A-BAC7-C7C40149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048-8F0E-46FC-AC01-19A4C8FC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221-AB7E-4639-BDCD-976D0915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D10-E7C3-4CC3-AADA-64251835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181-892B-41A9-B59A-70D3A595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75B-F970-47EA-955B-B26481E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24FC-E8B0-4481-BC2B-F4BA3263E7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Podsumowanie drugiego roku gry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Usługi podstawowe, reklama, pokoje Deluxe, kapitał ob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apitał obc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628280"/>
            <a:ext cx="8686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tacje z Unii Europejskiej, które otrzymywałeś w pierwszym roku, zostały wstrzymane na początku drugiego roku Waszej działal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jawił się bank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ewnia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który umożliwił pozyskanie kredytu obrotowego bądź inwestycyjnego oraz założenie lokaty terminow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Data\awinniczuk\AppData\Local\Microsoft\Windows\Temporary Internet Files\Content.IE5\OC6AOKSA\MC900440395[1].png"/>
          <p:cNvPicPr/>
          <p:nvPr/>
        </p:nvPicPr>
        <p:blipFill>
          <a:blip r:embed="rId1"/>
          <a:stretch/>
        </p:blipFill>
        <p:spPr>
          <a:xfrm>
            <a:off x="6156360" y="4653000"/>
            <a:ext cx="16588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okoje Delux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 ofercie pojawiły się pokoje Deluxe cechujące się wyższym standard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opyt na pokoje Deluxe jest zależny od lokalizacji Waszego hotel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Nowy typ pokoi umożliwił Wam zróżnicowanie ofer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0" y="25992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Reklama lokalna i regionalna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722240"/>
            <a:ext cx="9252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rze pojawiły się nowe formy promo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y reklamowe zostały zróżnicowane ze względu na ich zasię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Data\awinniczuk\AppData\Local\Microsoft\Windows\Temporary Internet Files\Content.IE5\MF5X68BG\MC900205482[1].wmf"/>
          <p:cNvPicPr/>
          <p:nvPr/>
        </p:nvPicPr>
        <p:blipFill>
          <a:blip r:embed="rId1"/>
          <a:stretch/>
        </p:blipFill>
        <p:spPr>
          <a:xfrm>
            <a:off x="2124000" y="4259160"/>
            <a:ext cx="1817640" cy="180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:\Data\awinniczuk\AppData\Local\Microsoft\Windows\Temporary Internet Files\Content.IE5\8LPNSFZA\MC900371064[1].wmf"/>
          <p:cNvPicPr/>
          <p:nvPr/>
        </p:nvPicPr>
        <p:blipFill>
          <a:blip r:embed="rId2"/>
          <a:stretch/>
        </p:blipFill>
        <p:spPr>
          <a:xfrm>
            <a:off x="5508720" y="4495680"/>
            <a:ext cx="148896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Usługi podstawow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1915920"/>
            <a:ext cx="9036000" cy="23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Pojawiła się możliwość wprowadzenia dodatkowych usług, które zwiększały atrakcyjność waszej oferty i przez to podnosiły popy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Poszczególne usługi oddziaływały w zróżnicowany sposób na różne grupy klientó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31:31Z</dcterms:modified>
  <cp:revision>14</cp:revision>
  <dc:subject/>
  <dc:title>Slajd 1</dc:title>
</cp:coreProperties>
</file>